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D3D-34AD-4805-A8AB-326ACB6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C7A-B851-4F4A-8EAE-B88898ED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E17-D875-4244-8C5F-C144F711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B6D-0977-458D-BAD3-44FF8A6A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317-87E9-4D5E-AB3D-65174BEC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BBF-B3C0-497F-B73E-D0C2436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6FF-AB6C-4DE2-A9B4-B7251A76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EB2-893C-4211-BD8A-72FC489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315-6509-405D-B2A6-5FB4177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8D19-CECC-44B1-A7BD-631F14F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561-4877-44F9-94CC-7A76979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DF4-A61A-4D71-B2AC-0F039F4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04E7-4C5F-41D7-8956-0494A84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65FB-8BEC-46C4-B6EA-9112006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80C5-BDCE-4951-B1AA-F7895FA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F894-A941-4864-AD9C-BADEB050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466-1C81-4CF4-850E-E1623E23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7AD-1FD2-425D-B893-D07BF585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272-4C88-4255-B5CA-77F72F4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148-1034-425F-9FA4-1ACC5F9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859-7E01-4F7D-871E-1C185A2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316-A59B-45BF-A747-B83A8EC4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202-3F1C-40FB-A902-9863C0F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2FF-8845-476F-AA9C-A77BDCE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0E7-9379-4911-93BF-2A7F16AB968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9C9C-7595-4E93-8F86-8CECFE87EC1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45720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52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minas e demais riqezas do subsolo, bem como as quedas d’águas, constituem propriedade distinta da do solo para efeito de exploração ou aproveitamento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37:37Z</dcterms:modified>
  <cp:revision>75</cp:revision>
  <dc:subject/>
  <dc:title>Apresentação do PowerPoint</dc:title>
</cp:coreProperties>
</file>